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comments/comment19.xml" ContentType="application/vnd.openxmlformats-officedocument.presentationml.comments+xml"/>
  <Override PartName="/ppt/comments/comment23.xml" ContentType="application/vnd.openxmlformats-officedocument.presentationml.comments+xml"/>
  <Override PartName="/ppt/comments/comment37.xml" ContentType="application/vnd.openxmlformats-officedocument.presentationml.comments+xml"/>
  <Override PartName="/ppt/comments/comment35.xml" ContentType="application/vnd.openxmlformats-officedocument.presentationml.comments+xml"/>
  <Override PartName="/ppt/comments/comment3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ang Dong" initials="PD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19.xml><?xml version="1.0" encoding="utf-8"?>
<p:cmLst xmlns:p="http://schemas.openxmlformats.org/presentationml/2006/main">
  <p:cm authorId="0" dt="2015-04-24T09:22:52.912000000" idx="1">
    <p:pos x="5649" y="2223"/>
    <p:text>适当把文本框加宽，让一句话尽量在一行内出现</p:text>
  </p:cm>
</p:cmLst>
</file>

<file path=ppt/comments/comment23.xml><?xml version="1.0" encoding="utf-8"?>
<p:cmLst xmlns:p="http://schemas.openxmlformats.org/presentationml/2006/main">
  <p:cm authorId="0" dt="2015-04-24T09:23:39.286000000" idx="2">
    <p:pos x="5346" y="2681"/>
    <p:text>这种情况下，尽量把术后护理另起一页</p:text>
  </p:cm>
</p:cmLst>
</file>

<file path=ppt/comments/comment35.xml><?xml version="1.0" encoding="utf-8"?>
<p:cmLst xmlns:p="http://schemas.openxmlformats.org/presentationml/2006/main">
  <p:cm authorId="0" dt="2015-04-24T09:25:10.281000000" idx="3">
    <p:pos x="1241" y="886"/>
    <p:text>删除编号</p:text>
  </p:cm>
</p:cmLst>
</file>

<file path=ppt/comments/comment36.xml><?xml version="1.0" encoding="utf-8"?>
<p:cmLst xmlns:p="http://schemas.openxmlformats.org/presentationml/2006/main">
  <p:cm authorId="0" dt="2015-04-24T09:25:45.776000000" idx="4">
    <p:pos x="1137" y="886"/>
    <p:text>删除编号</p:text>
  </p:cm>
</p:cmLst>
</file>

<file path=ppt/comments/comment37.xml><?xml version="1.0" encoding="utf-8"?>
<p:cmLst xmlns:p="http://schemas.openxmlformats.org/presentationml/2006/main">
  <p:cm authorId="0" dt="2015-04-24T09:25:29.547000000" idx="5">
    <p:pos x="1241" y="886"/>
    <p:text>删除编号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81FF-4260-46D1-8917-1D3BAED8F83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AB19-FB84-403A-B056-2BE3FE82D20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9296-A6C5-4D72-A53A-4743CA6CF74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EDCB-7E06-4D17-A755-61E031928FB5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EF11-043A-4D70-A632-2BC7A5C4822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AD22-B5A4-4064-B7B6-4C6FA6CF444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15E0-BD65-4F56-81B6-E1AF55D64A9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A7F6-BDF0-4EFD-815C-FFDEC4C5BF2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CD5A-38A8-4F4A-B254-21844AE87C11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D4C0-993B-4284-ACD4-B5B8D7401A7A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2F4E-38FF-48E6-B339-F56F2EF6C12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6514-37EA-4E5B-9A88-E8660790FB1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0A51-AEB4-4A86-B198-EBBBEA1A8800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0A14-823F-4949-9D06-F62462EF5AB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40A4-5D52-4233-83F6-AEC666F8BA6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9EE8-B923-4DC4-BF71-9518E276D12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0641-DC35-4915-BFC5-B4A563081FC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15465-9BC5-44D5-8508-B9333AE72B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C97E1-9658-452D-BEF0-8A960864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907EB-5DE2-4301-B256-B9A0C3FB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3B6AC-99A9-496A-AF4E-C8736912A0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00E2B-196C-4FD3-8E5A-B6292592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753DD-2AC8-4BC9-8655-5914BFAD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92350-6C9D-4F94-BC5B-5DF2A552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4776D-19E7-4D89-9305-627C958D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F191E-FB59-4ED4-B446-A9CC6405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F57EA-A313-4DEC-B7DE-321B1F9E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28D48-3014-4E7B-8A61-722DFE80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7B65-6D8A-4AE8-B095-B58DF179D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B3F3-8877-4E7E-96CE-CF6F2E606C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6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7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6049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三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房疾病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热敷、药物外敷或理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温和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抗生素，高热者给予物理或药物降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切开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通畅，注意观察引流液的颜色、性质和量的变化，及时更换浸湿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乳头凹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养成良好哺乳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发现右乳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右乳房外上方可见一个局部皮肤凹陷，右侧乳头略高于左侧乳头。右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部位可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cm×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不易推动，与乳房皮肤无粘连，无乳头溢液。右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5cm×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块，表面光滑，可活动，质地较硬。左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右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4cm×1.2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的肿块影，边缘有细小毛刺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：浸润性低分化导管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消瘦、乏力、贫血、发热等恶病质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目前早期发现乳腺癌最有效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是确定肿块性质最可靠的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发病的相关因素、临床表现、治疗原则和预防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乳腺癌发病的相关因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乳腺囊性增生症的病因、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房疾病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、多疗程、联合化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于保留乳房的乳腺癌手术后患者更是重要的治疗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内分泌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乳腺癌，在经历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疗程的术前化疗后，肿块明显缩小，现拟行右乳腺癌改良根治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进食、卫生、如厕）自理缺陷 与术后患侧上肢活动受限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下进行手术，术后应去枕平卧，头偏向一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加压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引流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脱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50920" y="1196640"/>
            <a:ext cx="41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范围关节活动包括手臂摇摆运动、爬墙运动、划圈运动、滑轮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492440" cy="4545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5265720" y="5886360"/>
            <a:ext cx="281772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上臂全范围关节活动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视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诊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br>
              <a:rPr sz="5400"/>
            </a:b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是乳腺实质的良性增生性疾病，多见于中年女性。本病与卵巢功能失调引起的激素分泌紊乱有关，造成乳腺实质增生过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限性乳腺囊性增生症患者，应在月经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内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局部病灶有恶性病变可能时，应尽早手术切除肿块并做病理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与腺体增生及雌激素水平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用宽松胸罩托起乳房，以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观察病情变化，定期进行乳房自我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主要为乳汁淤积和细菌入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以乳房局部红肿热痛为主。随着炎症发展，疼痛变为搏动性，后期炎症病灶可发展为乳房脓肿。患者可有全身感染中毒表现，常伴有患侧腋窝淋巴结肿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控制感染，排空乳汁，脓肿形成后应切开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减轻疼痛，降温和控制感染。做好脓肿切开引流护理。预防的关键是纠正乳头凹陷，养成良好哺乳习惯，并预防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  病因不明，相关因素有内分泌、饮食、遗传、环境和生活方式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  早期表现为单发乳房肿块，无痛、质硬、活动度差、边界不清。可有乳房外形改变。淋巴转移常导致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术前应关注患者的心理反应。术后注意观察伤口及引流情况，及时发现出血、患侧上肢水肿、皮瓣下积液、皮瓣坏死等并发症，加强患侧上肢功能锻炼，恢复患者的自理能力。另外，应指导健康女性以及患者进行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内分泌失调引起乳腺实质过度增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乳房周期性胀痛和乳房肿块为特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为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解释说明，消除患者心理顾虑。减轻乳房胀痛。遵医嘱服用药物。定期检查和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  ：乳房胀痛，有压痛性肿块，常伴有患侧腋窝淋巴结肿大和触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：寒战、高热、脉搏加快、食欲下降等全身感染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哺乳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过小或凹陷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汁过多或婴儿吸乳过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头破损或皲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烦躁、焦虑，并有挫败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空乳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脓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乳房炎症、肿胀、脓肿切开引流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细菌或细菌毒素进入血液循环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围产期乳房保健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52:08Z</dcterms:modified>
  <cp:revision>97</cp:revision>
  <dc:subject/>
  <dc:title>内科护理学</dc:title>
</cp:coreProperties>
</file>